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4.wmf" ContentType="image/x-wmf"/>
  <Override PartName="/ppt/media/image5.png" ContentType="image/png"/>
  <Override PartName="/ppt/media/image6.png" ContentType="image/png"/>
  <Override PartName="/ppt/media/image7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AFAD-BCDC-4909-B99E-67FE20A9E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7222-7885-42B4-B139-635C3E9ED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B9AF-CEF2-4DE0-8DE9-BED47F291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DE81-04F5-44E3-BCE7-D58103396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A87E5-29C3-480F-9036-DE69749D4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204F5-0B5D-4F52-A6D6-9F0559846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B2D14-B12C-462B-AABE-5F7AF928B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E6686-4C10-426B-9F70-EE9B445E4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859EA-9F03-4ABD-AC9E-69F599251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E98D6-780B-4286-9AE0-CF0CE395E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04DB3-DA1B-4B30-B0DB-173A5906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65D4-C6A1-4337-B1DB-C731F4112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4FEAB-D8FD-40B6-970F-8B6E0714E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42550-FD05-4AA6-A4E8-47F18410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2D00D-8413-4892-BF60-20960B988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D58E5-9744-4C63-91AF-4635B6FB4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E774C-CE1D-4C2B-971E-4DC9FD7EF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A940-62D1-4E01-8431-54D6D9DB2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464F-2633-4BF3-B9C6-1384214D8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2C25-5B64-4100-BED7-6B3FEBDCC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BBD0-ED67-45BC-8F99-450CA42C7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5B53-2E99-4F86-A6CC-8D3DC132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F447-AA83-449A-B141-A5DDEB1D6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501F-801D-4B50-9786-9EF8271BF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52FB4-606D-48CC-93CB-CFD367B4AB56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41B70-3549-4466-B53F-12521EA755B9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om.edu/CMS/3809/54070/63118.aspx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219320"/>
            <a:ext cx="69339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ommunity Medicine:</a:t>
            </a:r>
            <a:br>
              <a:rPr sz="40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ccess to Care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tra Costa Count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11240" y="3580920"/>
            <a:ext cx="700416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rancisco J. Dorado, M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ntra Costa Regional Medical Center ,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amily Medicine Residen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rch 3, 2009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icture from Monument, Concor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eaeae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y laborers face long odds of getting work as they wait by the Monument Boulevard McDonalds on Thursday Feb. 12, 2009 in Concord, Calif. The Pew Hispanic Center released a report Thursday saying "the unemployment rate has increased more and the share of the working-age population that is employed has fallen more for immigrant Hispanics than for other racial and ethnic groups in the first year of the recession." (Karl Mondon/ Staff)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ra Costa Times 2/13/0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osa and Adolfo are immigrants who are in the process of adjusting their immigration statu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dolfo owns his landscaping business and they make $1800/mont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y have one son, Jose, age 5 and one on the wa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ria is awaiting for Medi-Cal approva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xample (continue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ased on income Rosa qualifies for Medi-Ca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Jose qualifies for CHDP (not insuranc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dolfo qualifies for BHC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ria has coverage by Medi-Cal while pregnant then may apply for BHC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at happens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wborn will maintain Medi-Cal for first yea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Jose will only come in for CHDP (wellness visits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dolfo wants to adjust immigration status and does not want Government subsidized insurance. Maria is the sam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amily of 4, one will have insuran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ccess to Healthcare Coalition/ Contra Costa Public Healt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nded in 1998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ission is to “Improve access to health care for all children and families in Contra Costa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ozens of community organizations represent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elp hotline: 1-877-503-9350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ners in Acces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932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Kaiser Permanent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lanned Parenthood (Concord, Richmond, Antioch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a Clinica (Concord, Pittsburg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rookside Community Healt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octor’s Hospita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John Muir/Mt. Diabl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w Connections/East Bay Perinata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ccess to Health Care Coali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chool distric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tervention/Recommend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omotion of existing programs to qualified family members at prenatal visits, newborn exams, OB triage and CHDP visit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ducation about changes in immigration questions and health benefits not counting against becoming a citizen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ime will change stigma associated with using government subsidized health coverag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halleng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ore people who have lost their jobs and employer sponsored insurance are now dependent on CCHS &amp; ER’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udget cuts $15 million dollars from Contra Costa Health Services by March ‘09*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creasing loss of tax revenue as a result of housing crisis, decreasing tax bas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http://www.contracostatimes.com/search/ci_11777623?IADID=Search-www.contracostatimes.com-www.contracostatimes.com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Universal Health Coverage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CHIP expansion—4 million more eligibl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timulus bill includes $19 billion for electronic medical record, &amp; funding for COBRA coverag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o let there be no doubt: Health care reform cannot wait, it must not wait, and it will not wait another year”. President Obama’s Feb 24</a:t>
            </a:r>
            <a:r>
              <a:rPr b="0" lang="en-US" sz="3200" spc="-1" strike="noStrike" baseline="30000">
                <a:solidFill>
                  <a:srgbClr val="eaeaea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speech to Congress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0" lang="en-US" sz="6600" spc="-1" strike="noStrike">
                <a:solidFill>
                  <a:srgbClr val="ffcc66"/>
                </a:solidFill>
                <a:latin typeface="Times New Roman"/>
              </a:rPr>
              <a:t>Yes, we can!</a:t>
            </a:r>
            <a:br>
              <a:rPr sz="6600"/>
            </a:br>
            <a:endParaRPr b="0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9" name="headline76e70e" descr="Obama becomes 44th US president"/>
          <p:cNvPicPr/>
          <p:nvPr/>
        </p:nvPicPr>
        <p:blipFill>
          <a:blip r:embed="rId1"/>
          <a:stretch/>
        </p:blipFill>
        <p:spPr>
          <a:xfrm>
            <a:off x="2286000" y="1752480"/>
            <a:ext cx="5486400" cy="262908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457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6600" spc="-1" strike="noStrike">
                <a:solidFill>
                  <a:srgbClr val="ffcc66"/>
                </a:solidFill>
                <a:latin typeface="Times New Roman"/>
              </a:rPr>
              <a:t>¡Si, se puede!”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26748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Cesar Chavez 1927-1994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.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ackground of Uninsur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I.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pidemiology of the Uninsur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II.    Health Coverage Program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V.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o is not Accessing Car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V.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at is Contra Costa Doing to Hel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VI.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terven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VII.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uture:Universal Health Coverage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ackgroun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&gt;47 Million uninsured and we spend 17% of GDP, or $2.4 trillion *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ealth care spending in Switzerland, Germany, Canada and France are about 10% of GDP according the Organization for Economic Cooperation and Developmen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US is the only industrialized country without a safety net of insurance programs/universal health ca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e rank 42 in the world for life expectancy ‘08**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*Institute of Medicine (</a:t>
            </a:r>
            <a:r>
              <a:rPr b="0" lang="en-US" sz="1600" spc="-1" strike="noStrike" u="sng">
                <a:solidFill>
                  <a:srgbClr val="ff33cc"/>
                </a:solidFill>
                <a:uFillTx/>
                <a:latin typeface="Times New Roman"/>
                <a:hlinkClick r:id="rId1"/>
              </a:rPr>
              <a:t>http://www.iom.edu/CMS/3809/54070/63118.aspx</a:t>
            </a: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**https://www.cia.gov/library/publications/the-world-factbook/rankorder/2102rank.htm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tra Costa Health Indicato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43000" y="12193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ninsured rate for immigrants in California is 30-40%*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ver 10 thousand uninsured children living in Contra Costa* and many more adul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ates of asthma in African American children are (63/10,000) five times compared to White children (13/10,000)**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atinas have teen rate of birth 54.1/K more than twice the county overall 23.4/ K**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**Source: 2007 CHAPE, CC Public Health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*E. Richard Brown, UCLA School of Public Health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tra Costa Health Indicato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frican Americans and Latinos, as well as people living in San Pablo, Richmond, Richmond, Pittsburg, Bay Point are more likely to die from diabetes compared to the county overall**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sidents of Bay Point die 11 years younger than those living in Orinda**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**Source: 2007 CHAPE, CC Public Health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istory of Insurance*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9907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Medicare 1965 and Part D in 2003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Medicaid/Medi-Cal 1965 (Title XVIII and XIX of the Social Security Act)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SCHIP (State Children’s Health Insurance Program)/Healthy Families 1997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FQHC Status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Local Initiative/CCHP since 1973***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Basic Adult Care-</a:t>
            </a:r>
            <a:r>
              <a:rPr b="0" lang="en-US" sz="22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Basic Health Care 8,500 enrolled in 2007.**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$45 million over 3 years from federal funds for Health Coverage Initiative**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*</a:t>
            </a: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http://www.cms.hhs.gov/History/Downloads/CMSProgramKeyMilestones.pdf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** Director’s Report January 2009, pg 8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***http://www.cchealth.org/health_plan/about_us.php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come Guidelines and Health Coverage Program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522440" y="1393920"/>
          <a:ext cx="6095880" cy="40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440" y="1393920"/>
                    <a:ext cx="6095880" cy="40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609480" y="1523880"/>
          <a:ext cx="8534520" cy="5078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1523880"/>
                    <a:ext cx="8534520" cy="507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Federal Poverty Guidelines (FPG)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eaeae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SansMS"/>
              </a:rPr>
              <a:t>2008 FPG guidelines for a </a:t>
            </a:r>
            <a:r>
              <a:rPr b="1" lang="en-US" sz="3200" spc="-1" strike="noStrike">
                <a:solidFill>
                  <a:srgbClr val="3365cd"/>
                </a:solidFill>
                <a:latin typeface="ComicSansMS-Bold"/>
              </a:rPr>
              <a:t>4-person family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SansMS"/>
              </a:rPr>
              <a:t>100% FPL = $21,200/yea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SansMS"/>
              </a:rPr>
              <a:t>150% FPL = $31,800/yea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SansMS"/>
              </a:rPr>
              <a:t>200% FPL = $42,400/yea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SansMS"/>
              </a:rPr>
              <a:t>250% FPL = $53,000/yea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SansMS"/>
              </a:rPr>
              <a:t>300% FPL = $63,600/yea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o are the uninsured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1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4280" tIns="0" bIns="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457880" y="4486320"/>
            <a:ext cx="228600" cy="171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0" y="1447920"/>
            <a:ext cx="914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ff33cc"/>
                </a:solidFill>
                <a:uFillTx/>
                <a:latin typeface="Times New Roman"/>
              </a:rPr>
              <a:t>«</a:t>
            </a:r>
            <a:endParaRPr b="0" lang="en-US" sz="7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ff33cc"/>
                </a:solidFill>
                <a:uFillTx/>
                <a:latin typeface="Times New Roman"/>
              </a:rPr>
              <a:t>1</a:t>
            </a:r>
            <a:endParaRPr b="0" lang="en-US" sz="7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ff33cc"/>
                </a:solidFill>
                <a:uFillTx/>
                <a:latin typeface="Times New Roman"/>
              </a:rPr>
              <a:t>2</a:t>
            </a:r>
            <a:endParaRPr b="0" lang="en-US" sz="7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ff33cc"/>
                </a:solidFill>
                <a:uFillTx/>
                <a:latin typeface="Times New Roman"/>
              </a:rPr>
              <a:t>3</a:t>
            </a:r>
            <a:endParaRPr b="0" lang="en-US" sz="7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ff33cc"/>
                </a:solidFill>
                <a:uFillTx/>
                <a:latin typeface="Times New Roman"/>
              </a:rPr>
              <a:t>4</a:t>
            </a:r>
            <a:endParaRPr b="0" lang="en-US" sz="7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ff33cc"/>
                </a:solidFill>
                <a:uFillTx/>
                <a:latin typeface="Times New Roman"/>
              </a:rPr>
              <a:t>»</a:t>
            </a:r>
            <a:endParaRPr b="0" lang="en-US" sz="7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2649600"/>
            <a:ext cx="5375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428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457880" y="4486320"/>
            <a:ext cx="228600" cy="171360"/>
          </a:xfrm>
          <a:prstGeom prst="rect">
            <a:avLst/>
          </a:prstGeom>
          <a:ln w="0">
            <a:noFill/>
          </a:ln>
        </p:spPr>
      </p:pic>
      <p:pic>
        <p:nvPicPr>
          <p:cNvPr id="116" name="20090212__ecct0213econlatin~1_Gallery" descr=""/>
          <p:cNvPicPr/>
          <p:nvPr/>
        </p:nvPicPr>
        <p:blipFill>
          <a:blip r:embed="rId3"/>
          <a:stretch/>
        </p:blipFill>
        <p:spPr>
          <a:xfrm>
            <a:off x="1143000" y="1143000"/>
            <a:ext cx="3029040" cy="4572000"/>
          </a:xfrm>
          <a:prstGeom prst="rect">
            <a:avLst/>
          </a:prstGeom>
          <a:ln w="0">
            <a:noFill/>
          </a:ln>
        </p:spPr>
      </p:pic>
      <p:pic>
        <p:nvPicPr>
          <p:cNvPr id="117" name="20090212__ecct0213econlatin~2_Gallery" descr=""/>
          <p:cNvPicPr/>
          <p:nvPr/>
        </p:nvPicPr>
        <p:blipFill>
          <a:blip r:embed="rId4"/>
          <a:stretch/>
        </p:blipFill>
        <p:spPr>
          <a:xfrm>
            <a:off x="4267080" y="1143000"/>
            <a:ext cx="4572000" cy="3108240"/>
          </a:xfrm>
          <a:prstGeom prst="rect">
            <a:avLst/>
          </a:prstGeom>
          <a:ln w="0">
            <a:noFill/>
          </a:ln>
        </p:spPr>
      </p:pic>
      <p:pic>
        <p:nvPicPr>
          <p:cNvPr id="118" name="20090212__ecct0213econlatin~4_Gallery" descr=""/>
          <p:cNvPicPr/>
          <p:nvPr/>
        </p:nvPicPr>
        <p:blipFill>
          <a:blip r:embed="rId5"/>
          <a:stretch/>
        </p:blipFill>
        <p:spPr>
          <a:xfrm>
            <a:off x="4267080" y="4343400"/>
            <a:ext cx="4572000" cy="23209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09480" y="5716440"/>
            <a:ext cx="358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http://www.contracostatimes.com/search/ci_11692891?IADID=Search-www.contracostatimes.com-www.contracostatimes.com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2T20:34:28Z</dcterms:created>
  <dc:creator>Valued Customer </dc:creator>
  <dc:description/>
  <dc:language>en-US</dc:language>
  <cp:lastModifiedBy> </cp:lastModifiedBy>
  <dcterms:modified xsi:type="dcterms:W3CDTF">2009-03-03T06:23:32Z</dcterms:modified>
  <cp:revision>12</cp:revision>
  <dc:subject/>
  <dc:title>Community Medicine: Access to Care  Contra Costa County</dc:title>
</cp:coreProperties>
</file>